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F8BB-B80B-40BA-A505-29E3BFBB6332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08A5-EF0F-4A1B-9AF6-6171FA21A3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Arial"/>
              </a:rPr>
              <a:t>http://www.mines.gouv.ml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C609-2149-4FB1-8FE6-B4DB6D9152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Comp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1052-AC8A-46CE-B5D7-57B863EB22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veral models exist to estimate the AETR of a given mining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ARI (Fiscal Analysis of Resources Indsutries), IMF: http://www.imf.org/external/np/fad/fari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TGI (Natural Resource Governance Institute): http://www.resourcegovernance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60C5-9B41-4205-9196-86F4FA5C93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Mali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SSISTANCE REPORT—MINING AND PETROLEUM TAXATION (DIAGNOSTIC ASSESSMENT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ttps://www.imf.org/external/pubs/ft/scr/2015/cr15348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CC0D-00F4-4662-8AD8-DE90EDD56C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Mali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SSISTANCE REPORT—MINING AND PETROLEUM TAXATION (DIAGNOSTIC ASSESSMENT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ttps://www.imf.org/external/pubs/ft/scr/2015/cr15348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EF02-35A1-47A0-81C1-B27B9DA1B2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is chapter focuses on the mining industry. Artisanal mining raises particular issues, which are beyond the scope of this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 the upstream Oil sector (production), Production Sharing Arrangements apply and remain largely undisclo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achs, Jeffrey and Warner, Andrew (1995). "Natural Resource Abundance and Economic Growth". NBER Working Paper (5398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rey Sachs and Andrew Warner established a strong correlation between natural resource abundance and poor economic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2110-5BFB-4A98-8A69-E996E50B8A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IMF (20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C046-A87B-4159-AFC2-222F14C1BA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CDF7-C6E7-40CC-8576-957A6B23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F25C-5E9A-44F0-A726-2F9D4EB8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B30-45F0-4A6B-B408-5A7BD8DB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A095-2CD0-4A4C-85E6-2A875660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2A75-1228-457C-83D1-B24D6020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1B9D-D7AB-4865-9E8E-CEF84BE6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575B-C0F7-4A6D-8144-55D45F94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DE64-E362-4E14-A6E9-9C55F2D8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9D3A-0F96-4521-AE56-7CE1F879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ED70-7274-40C2-903D-5CD8D414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F73D-3AE0-4EBA-893D-25B12CF9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3D0-490A-4A57-B591-1C0FC9C0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040D-E316-469F-9D68-78F7C708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8E58-4FFE-4A23-9673-3DF0F069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4569-F0CC-4844-8A04-8E24345A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383E-A237-4BB7-B3B1-A9AF3720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1295-9550-48D9-BA7B-5339A2E4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731-4D43-4B1C-A989-D29059A5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FA9-C610-46DC-ABC2-9ECFE462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0E26-2EF8-42F5-AB9D-1A9D895A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F15E-ED66-4CD7-81BA-8B8494CF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FFD-E60F-4D56-A7F7-359CC78B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1E0C-C46F-499E-927C-5EAC18CC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99A-0703-4E4C-BBB5-61EA809B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k Gallagher, Ph.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B961-00EF-4A30-AE24-9AF08AEC25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648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6480">
            <a:solidFill>
              <a:srgbClr val="133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6480">
            <a:solidFill>
              <a:srgbClr val="133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Mark Gallagher, Ph.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9A09-EA7D-42C4-8056-B823FBDFCB3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95280" y="2565360"/>
            <a:ext cx="504036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d624"/>
                </a:solidFill>
                <a:latin typeface="Verdana"/>
              </a:rPr>
              <a:t>Mining taxation</a:t>
            </a:r>
            <a:br>
              <a:rPr sz="2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Module  7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TextBox 3"/>
          <p:cNvSpPr/>
          <p:nvPr/>
        </p:nvSpPr>
        <p:spPr>
          <a:xfrm flipH="1">
            <a:off x="3708360" y="4270320"/>
            <a:ext cx="41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omestic Revenue Mobilis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raining funded by the European Un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rainer: Grégoire Rota-Graziosi, CERDI-CNRS, Université Clermont Auvergne.</a:t>
            </a:r>
            <a:r>
              <a:rPr b="0" i="1" lang="en-US" sz="1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Transparenc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14400" y="1844280"/>
            <a:ext cx="81532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Necessary (not sufficient) condition for any optimal tax regime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xtractive Industries Transparency Initiative (World Bank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ptembrer 2014 : 29 countries are conform, 17 candidate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f5494"/>
                </a:solidFill>
                <a:latin typeface="Verdana"/>
              </a:rPr>
              <a:t>Particular tax agreements ususally undisclose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May differ significantly from the Mining Code and National Tax Laws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Some exceptions: for instance, Mali since 2014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f5494"/>
                </a:solidFill>
                <a:latin typeface="Verdana"/>
              </a:rPr>
              <a:t>Transparency is a tool to discriminate among MNEs.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All developed countries do not have the same diclosure constraints for their listed companies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Transparency : a tool to protect shareholders in rich countries may allow the protection of tax base in developing countries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implicit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060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f5494"/>
                </a:solidFill>
                <a:latin typeface="Verdana"/>
              </a:rPr>
              <a:t>Advantag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Improving transparency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Reducing compliance costs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f5494"/>
                </a:solidFill>
                <a:latin typeface="Verdana"/>
              </a:rPr>
              <a:t>Ring fencing principl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imiting a oil or mining company to only one extraction licence =&gt; One enterprise per mining site.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Applying a strict definition of mining sub-contractor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tabilit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f5494"/>
                </a:solidFill>
                <a:latin typeface="Verdana"/>
              </a:rPr>
              <a:t>Irreversible investissement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f5494"/>
                </a:solidFill>
                <a:latin typeface="Verdana"/>
              </a:rPr>
              <a:t>=&gt; The stability of tax regime is necessary for the mining firms.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f5494"/>
                </a:solidFill>
                <a:latin typeface="Verdana"/>
              </a:rPr>
              <a:t>Avoiding the risk of expropriation through tax conditions adjustment.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f5494"/>
                </a:solidFill>
                <a:latin typeface="Verdana"/>
              </a:rPr>
              <a:t>Stability claus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f5494"/>
                </a:solidFill>
                <a:latin typeface="Verdana"/>
              </a:rPr>
              <a:t>Freeze the modality of mining rent sharing.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f5494"/>
                </a:solidFill>
                <a:latin typeface="Verdana"/>
              </a:rPr>
              <a:t>Several forms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f5494"/>
                </a:solidFill>
                <a:latin typeface="Verdana"/>
              </a:rPr>
              <a:t>Freeze the sharing by fixing tax rates for the lifetime of the mine.</a:t>
            </a:r>
            <a:endParaRPr b="0" lang="en-US" sz="13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f5494"/>
                </a:solidFill>
                <a:latin typeface="Verdana"/>
              </a:rPr>
              <a:t>Mutually accepted renegociation</a:t>
            </a:r>
            <a:endParaRPr b="0" lang="en-US" sz="13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f5494"/>
                </a:solidFill>
                <a:latin typeface="Verdana"/>
              </a:rPr>
              <a:t>Very long period (20 to 50 years)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Progressivit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22762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A mining tax regime is progressive if the mining rent share for the government increases automatically with the profitability of the mining project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Sharing the rent =&gt; sharing the risk to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Tax instruments: Tax Co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Corporate Income Tax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Reduced rate or increased rat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Exemp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Capital depreciation ru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Tax in capital income (dividends, interest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DTA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OECD vs UN mod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Capital Gain Tax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Indirect transfer of mining site through tax have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Exploration =&gt; Specul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f5494"/>
                </a:solidFill>
                <a:latin typeface="Verdana"/>
              </a:rPr>
              <a:t>Tax reduced the risk of speculation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f5494"/>
                </a:solidFill>
                <a:latin typeface="Verdana"/>
              </a:rPr>
              <a:t>Tax Instruments: Specific tax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964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Land tax, registration fe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Nominal amou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Formalizing property righ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Ad valorem royal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Unitary rate or progressive rate (based on the commodity pric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Tax based on tunrover, which may be reduced by some costs (transport, marketing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Signature bonuses, production bonu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Resource Rent Tax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Tax based on cash flows, which applies when the mining project reaches a given profitability threshold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Beyond tax instrumen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f5494"/>
                </a:solidFill>
                <a:latin typeface="Verdana"/>
              </a:rPr>
              <a:t>Free equity in mining firm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The State remains minority.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=&gt; Introduction of preference dividend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f5494"/>
                </a:solidFill>
                <a:latin typeface="Verdana"/>
              </a:rPr>
              <a:t>State-owned Mining Compan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The issue of privatization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Main characteristic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447920"/>
          <a:ext cx="8458200" cy="5046480"/>
        </p:xfrm>
        <a:graphic>
          <a:graphicData uri="http://schemas.openxmlformats.org/drawingml/2006/table">
            <a:tbl>
              <a:tblPr/>
              <a:tblGrid>
                <a:gridCol w="1927080"/>
                <a:gridCol w="1285920"/>
                <a:gridCol w="1285920"/>
                <a:gridCol w="1284480"/>
                <a:gridCol w="1285560"/>
                <a:gridCol w="1389240"/>
              </a:tblGrid>
              <a:tr h="7174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or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shar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2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sk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lay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m. Cost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4304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 Rent Tax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T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éré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4304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ing royalties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tary rat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17760"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essive rates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vé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4124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ee equity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e 3"/>
          <p:cNvGrpSpPr/>
          <p:nvPr/>
        </p:nvGrpSpPr>
        <p:grpSpPr>
          <a:xfrm>
            <a:off x="250920" y="1413000"/>
            <a:ext cx="7880400" cy="5163840"/>
            <a:chOff x="250920" y="1413000"/>
            <a:chExt cx="7880400" cy="5163840"/>
          </a:xfrm>
        </p:grpSpPr>
        <p:pic>
          <p:nvPicPr>
            <p:cNvPr id="134" name="Graphique 4" descr=""/>
            <p:cNvPicPr/>
            <p:nvPr/>
          </p:nvPicPr>
          <p:blipFill>
            <a:blip r:embed="rId1"/>
            <a:stretch/>
          </p:blipFill>
          <p:spPr>
            <a:xfrm>
              <a:off x="975240" y="1413000"/>
              <a:ext cx="7156080" cy="51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ZoneTexte 1"/>
            <p:cNvSpPr/>
            <p:nvPr/>
          </p:nvSpPr>
          <p:spPr>
            <a:xfrm>
              <a:off x="4559040" y="3783600"/>
              <a:ext cx="1793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investment profit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6" name="ZoneTexte 1"/>
            <p:cNvSpPr/>
            <p:nvPr/>
          </p:nvSpPr>
          <p:spPr>
            <a:xfrm>
              <a:off x="4679640" y="4452120"/>
              <a:ext cx="179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government revenue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7" name="ZoneTexte 1"/>
            <p:cNvSpPr/>
            <p:nvPr/>
          </p:nvSpPr>
          <p:spPr>
            <a:xfrm>
              <a:off x="1825560" y="5017320"/>
              <a:ext cx="13744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investissement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8" name="ZoneTexte 1"/>
            <p:cNvSpPr/>
            <p:nvPr/>
          </p:nvSpPr>
          <p:spPr>
            <a:xfrm flipV="1">
              <a:off x="250920" y="4791600"/>
              <a:ext cx="6709680" cy="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Investment 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return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9" name="ZoneTexte 1"/>
            <p:cNvSpPr/>
            <p:nvPr/>
          </p:nvSpPr>
          <p:spPr>
            <a:xfrm>
              <a:off x="1690560" y="5720760"/>
              <a:ext cx="13143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exploration 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and development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40" name="ZoneTexte 1"/>
            <p:cNvSpPr/>
            <p:nvPr/>
          </p:nvSpPr>
          <p:spPr>
            <a:xfrm>
              <a:off x="5082840" y="5788800"/>
              <a:ext cx="96336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41" name="ZoneTexte 31"/>
            <p:cNvSpPr/>
            <p:nvPr/>
          </p:nvSpPr>
          <p:spPr>
            <a:xfrm flipV="1" rot="16200000">
              <a:off x="7145280" y="5724000"/>
              <a:ext cx="12445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rehabilitation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42" name="ZoneTexte 33"/>
            <p:cNvSpPr/>
            <p:nvPr/>
          </p:nvSpPr>
          <p:spPr>
            <a:xfrm rot="16200000">
              <a:off x="256680" y="2671920"/>
              <a:ext cx="194004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positive cash flow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cxnSp>
          <p:nvCxnSpPr>
            <p:cNvPr id="143" name="Connecteur droit avec flèche 13"/>
            <p:cNvCxnSpPr/>
            <p:nvPr/>
          </p:nvCxnSpPr>
          <p:spPr>
            <a:xfrm>
              <a:off x="1451160" y="5034240"/>
              <a:ext cx="10080" cy="128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44" name="Connecteur droit 14"/>
            <p:cNvSpPr/>
            <p:nvPr/>
          </p:nvSpPr>
          <p:spPr>
            <a:xfrm flipH="1">
              <a:off x="3184560" y="5994000"/>
              <a:ext cx="19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cxnSp>
          <p:nvCxnSpPr>
            <p:cNvPr id="145" name="Connecteur droit avec flèche 15"/>
            <p:cNvCxnSpPr/>
            <p:nvPr/>
          </p:nvCxnSpPr>
          <p:spPr>
            <a:xfrm flipV="1">
              <a:off x="6053040" y="5976000"/>
              <a:ext cx="1539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46" name="Connecteur droit avec flèche 16"/>
            <p:cNvCxnSpPr/>
            <p:nvPr/>
          </p:nvCxnSpPr>
          <p:spPr>
            <a:xfrm flipV="1">
              <a:off x="1450800" y="1813320"/>
              <a:ext cx="1080" cy="31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5494"/>
                </a:solidFill>
                <a:latin typeface="Verdana"/>
              </a:rPr>
              <a:t>Sharing the rent: Average Effective Tax Rate (AETR)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ETR = an indicator of the effective tax burden or equivalently the governmental share of mining rent.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= Ratio of the discounted value of cash flows of tax revenues and the discounted value of the mining project.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f5494"/>
                </a:solidFill>
                <a:latin typeface="Verdana"/>
              </a:rPr>
              <a:t>The value of the AETR depends on the discounted rate.</a:t>
            </a: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Introduc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Principles of an optimal taxation of the mining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Current mining taxation regi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Sharing the mining r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Espace réservé du pied de pag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k Gallagher, Ph.D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AE38-DF86-48F3-8BD4-F2A2C64897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89080" y="990720"/>
            <a:ext cx="85532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2491920"/>
            <a:ext cx="8229600" cy="3529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230040" y="1197000"/>
            <a:ext cx="868212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Introduction: The characteristics of the mining industr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Resource cur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Resource rich countries have a lower growth rate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Taxation: Acountability and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Mircoeconomic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Sunk costs, irreversible investment =&gt; hold-up issue/ time inconsistency –commitment issu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Risks: Technology, economics, politics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Macroeconcomic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Worldwide supply and deman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Volatility of commodity pri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Super-cycles (30 years) 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f5494"/>
                </a:solidFill>
                <a:latin typeface="Verdana"/>
              </a:rPr>
              <a:t>USA end of XIXth century, Europ and Japan (1945-1975), China (2000-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Resource-rich countries in Afric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AE87-18B0-4244-A5B7-693FC742F1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826920" y="1895400"/>
            <a:ext cx="734544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f5494"/>
                </a:solidFill>
                <a:latin typeface="Verdana"/>
              </a:rPr>
              <a:t>Volatility of commodity prices</a:t>
            </a:r>
            <a:r>
              <a:rPr b="1" lang="fr-FR" sz="3600" spc="-1" strike="noStrike">
                <a:solidFill>
                  <a:srgbClr val="2d5ec1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582444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upply: an increasing produ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1371600" y="1150920"/>
            <a:ext cx="655308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Demand: The role of Chin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911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haring the mining ren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f5494"/>
                </a:solidFill>
                <a:latin typeface="Verdana"/>
              </a:rPr>
              <a:t>Mining tax regime= a derogatory tax regime (different from the standard tax regime) =&gt; Mining Cod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f5494"/>
                </a:solidFill>
                <a:latin typeface="Verdana"/>
              </a:rPr>
              <a:t>Result of trade-off between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f5494"/>
                </a:solidFill>
                <a:latin typeface="Verdana"/>
              </a:rPr>
              <a:t>Attracting foreign investors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f5494"/>
                </a:solidFill>
                <a:latin typeface="Verdana"/>
              </a:rPr>
              <a:t>Obtaining a fair share of the miing rent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f5494"/>
                </a:solidFill>
                <a:latin typeface="Verdana"/>
              </a:rPr>
              <a:t>Several mining tax regimes depending on the production cycl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f5494"/>
                </a:solidFill>
                <a:latin typeface="Verdana"/>
              </a:rPr>
              <a:t>Exploration (no economic activity, no turnover, but potential capital gains)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f5494"/>
                </a:solidFill>
                <a:latin typeface="Verdana"/>
              </a:rPr>
              <a:t>Extraction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f5494"/>
                </a:solidFill>
                <a:latin typeface="Verdana"/>
              </a:rPr>
              <a:t>Exploration (pas d’activité économique, CA)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f5494"/>
                </a:solidFill>
                <a:latin typeface="Verdana"/>
              </a:rPr>
              <a:t>Artisanal producers.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ome principles of an optimal mining tax regim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f5494"/>
                </a:solidFill>
                <a:latin typeface="Verdana"/>
              </a:rPr>
              <a:t>Transparency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f5494"/>
                </a:solidFill>
                <a:latin typeface="Verdana"/>
              </a:rPr>
              <a:t>Simplicity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f5494"/>
                </a:solidFill>
                <a:latin typeface="Verdana"/>
              </a:rPr>
              <a:t>Stability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f5494"/>
                </a:solidFill>
                <a:latin typeface="Verdana"/>
              </a:rPr>
              <a:t>Progressivity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grrotagr</cp:lastModifiedBy>
  <cp:lastPrinted>2016-01-22T00:10:01Z</cp:lastPrinted>
  <dcterms:modified xsi:type="dcterms:W3CDTF">2017-04-06T13:52:30Z</dcterms:modified>
  <cp:revision>173</cp:revision>
  <dc:subject/>
  <dc:title>Slide 1</dc:title>
</cp:coreProperties>
</file>